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3043-C490-4A47-857E-10F22D861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1918-A6DF-4A20-B512-57FB9842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B6A2B-2CE9-4F53-A8F7-149E04D7D1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F68D2-CAC2-4E78-9E2E-A656F3F6AB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B82A8-6403-4579-B8B7-888C7D94BC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1ED2C-38C7-401E-BDFF-6A995159D5F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C01D1-A9C0-4CF1-BAD3-0E4C11088F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5EAFEB-A3B3-4713-B260-077A60992D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BE6F6-BCA2-4275-964A-8C24AFBBB8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5E5B2-8816-41AB-BCEF-507FD73EA9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4EA01-7486-4C91-B712-5D473859A70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52470-E298-4A3F-ABAB-5BA892706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EFE48-FD24-40A1-86AF-04B7162F6ED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C4D84-5EFF-4607-A901-0C6DD928795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AD6CE-4526-4D3D-900B-F9DF0E35CB9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27C46-E63E-45E5-90CE-43DDA49685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B52B4-B12B-4ED6-A7F2-8F74B972DB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4027D-F7DA-4336-A986-22EC4AB470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7ADBE-3B44-45C0-974B-8F38545015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03495-F44F-44BF-B3DB-EC9E89577BD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00370-DF00-4DC8-BB54-6F75B798366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1995C-84E1-4B6B-B938-957C25E3D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38577-ED6E-4588-B0CE-2C127AB1C6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4963-2AA3-42CE-9BDC-E15EC36673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EDFD-20FB-4831-BC19-65F2C4896DD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2E07-803F-492B-A006-28F3736E7D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F12F-39B6-4C9A-9E65-84DFCD32CA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AEEF-A501-491C-B5EF-B000B737B96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F341-5617-4252-80F6-34808EEC17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D5B0-CDCE-4850-BC42-5B872A285CE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7930-7A34-4253-BE99-7A18B6ACE6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CA75-BEE4-454C-B1A8-E7A8997EB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755D-E923-4F17-A2D5-63808708F1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0198-51E8-47A0-9765-320FBC8D56A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C10C-B285-4AD9-9BA7-20A63E00E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0CF5-E587-41DE-AE0C-FB8AAF9C0B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3038-5563-4768-9CE1-5D04BE1F49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D1DE-86E8-4ECA-8368-26428B30D8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B6E3-BEAD-488C-A749-A489D02983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0230-77A9-4E80-873A-78D95950C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3CBC-61B6-4A66-A033-90937DBBA4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9895-3BDB-45DA-8378-A74519DEB7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0125-A692-469F-AE26-49430E8069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4E38-6225-4221-9566-C1BB8D9A68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19C1-8E09-496B-BD43-42EB863544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E620-F84B-4F2C-855F-00CD0BF7ED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28BE-AAE5-45F5-B557-0FE52FD17D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3A3F-6A96-46A6-8EB3-C680D9B1D5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F06C-7895-4302-8299-C801DDF408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2D85-A6E1-4DFD-9147-2D1F15852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9DF5-7679-4F3E-BBE4-C3C7CA471F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4096-2E6E-4823-ABE1-BA8A95536C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096C-7E70-45B2-A96F-E562BD7675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B23C-5902-4FDF-BC03-F77CDD74F7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3136-24FC-4875-BE40-93A8738A2D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00AA-2376-474F-8710-BFA7161EFF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312C-932D-4872-84C1-941A3652A7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9FF7-59B0-4ABB-9DAD-5D33A042A2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DC8A-47DF-42E4-8871-FC7F32F679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75F-858B-4719-AAA2-9D6D1DAC5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F60-C21E-43CF-BA5A-BBDDF2909E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98E-4255-4095-B42F-B0E1D5AAF0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34B-90AD-4E25-85E7-3A5C1CF3F9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772-3983-4973-898C-878B38A181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E1D-09EE-42E6-B699-CC967D0A40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30C-9D06-48FA-B4AB-8FF6EB2DED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849-3656-4440-A4E7-5C5F25BBE3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DF1-7B80-4CA5-A83E-9A8B083465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E4E-1A29-4FE6-9AB7-B98F29F5C6E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8AD-44AB-4C1D-815B-16C4D653D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FCE-7953-471E-82AB-B13618FD27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C0B8C-86BC-427E-9B08-5EB153A81B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F78E3-3D63-4079-81E6-B910D0A196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C364C-6E97-4896-9277-1DE2A9A7D7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1BAAA-B24E-440A-AB14-4567E393D3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D6674-3AB3-4A19-B2F4-D475492061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8D9B4-70CD-4121-BBD3-E46A3C4D73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39D33-F289-4E41-AF93-FEBC709D3F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06CE8-E71E-4343-962B-038AA5543C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87EF4-6467-49F7-BB7B-A574F3A82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EA71-8386-4156-8765-C44956899C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0F51A-24CB-4184-8D51-1FC1A34756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58BCB-1417-4E4E-98C5-9378045734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190D7-4C10-42CD-8484-4FD2D89DAF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E672C-B5A0-420C-BA9B-81EAF6BF27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F1921-05E4-41D3-A9B2-C2046F2CED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94576-4440-44B7-BA81-26D88AA12E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C0828-1BB5-4ADA-B27F-F24E2A5BE6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1733B-AEB0-4B4B-BBB4-8111EF58CC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F4995-A8AF-45CB-9840-74AF14D33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FC329-FB9C-48DE-9F25-96E5393C11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63D04-EC26-4841-9C2F-40FB7C4CE0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E68E1-D9CA-4068-A05F-6D9735C863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6C4E-FDBA-4CBA-B6C5-F43BF5B1D6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4948D-EF99-461F-8644-B2E036FF84B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52E-BDA5-4F73-9FE7-D88BD58475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7AB3-2307-4DC9-B533-263B06F867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AED4-8F89-4EF6-A6D4-A9C20EFCBA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1CD7-F33D-4A3A-9286-24081326D44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2351-54D5-4EC9-A9A7-BCF4CA070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4F45-517E-45DB-A4D2-8FEEBB1820F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475-46E2-449C-9F86-2EB152343A5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CC75-3FFB-4D00-9654-FA1D9FA938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06FB-793E-4CE1-A097-326C09B593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DF91-1EE2-41D6-B469-7B079811731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22DE-41B3-4FAF-ABF1-CF851E7A95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1F8D-836F-4F69-9C4C-8E482AE252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27089-3A8B-42CE-A152-07878B52B2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5BC4D9-D329-46E4-A8B0-3BB9D424EB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4882F-64E4-4881-973B-DCAA61748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pic>
        <p:nvPicPr>
          <p:cNvPr id="2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383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Num" idx="8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8AEA-9F81-4B58-8D77-BC2AE129CC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425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Num" idx="9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970-ED4F-40BB-95DC-6A5C8F76948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14680" y="1855800"/>
            <a:ext cx="58575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206020"/>
                </a:solidFill>
                <a:latin typeface="Arial"/>
              </a:rPr>
              <a:t>Poster Spotl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96960" y="3440160"/>
            <a:ext cx="7775640" cy="3095640"/>
          </a:xfrm>
          <a:prstGeom prst="rect">
            <a:avLst/>
          </a:prstGeom>
          <a:solidFill>
            <a:srgbClr val="202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trees.png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Logo4Banner.png"/>
          <p:cNvPicPr/>
          <p:nvPr/>
        </p:nvPicPr>
        <p:blipFill>
          <a:blip r:embed="rId6"/>
          <a:stretch/>
        </p:blipFill>
        <p:spPr>
          <a:xfrm>
            <a:off x="5972040" y="66600"/>
            <a:ext cx="317196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1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7BD0-BB19-4277-B9F1-7DC14D5C15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2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1973-DD10-4228-BE0E-886268773A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3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9909-E11F-4706-A88D-D551D49EBE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Num" idx="4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A84A-C211-421F-BDD7-C5F20B28B0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257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5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B0E7-4CAC-450B-8F17-64E3382E10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299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Num" idx="6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4E89-5FE7-4981-A803-88846283E4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341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Num" idx="7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567-CB4C-4389-AD41-3DE83A23BD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2"/>
          <p:cNvSpPr/>
          <p:nvPr/>
        </p:nvSpPr>
        <p:spPr>
          <a:xfrm>
            <a:off x="2000520" y="2844720"/>
            <a:ext cx="51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 1A: Tuesday Morning, June 25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868320" y="4327560"/>
            <a:ext cx="740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p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Auth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Paper Title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9000" y="0"/>
            <a:ext cx="1212480" cy="459720"/>
          </a:xfrm>
          <a:prstGeom prst="rect">
            <a:avLst/>
          </a:prstGeom>
          <a:noFill/>
          <a:ln w="0">
            <a:noFill/>
          </a:ln>
          <a:effectLst>
            <a:outerShdw dist="12904" dir="3591516" blurRad="0" rotWithShape="0">
              <a:srgbClr val="ffff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1A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48:56Z</dcterms:created>
  <dc:creator>Eric</dc:creator>
  <dc:description/>
  <dc:language>en-US</dc:language>
  <cp:lastModifiedBy>Ryan Farrell</cp:lastModifiedBy>
  <dcterms:modified xsi:type="dcterms:W3CDTF">2013-05-19T06:49:33Z</dcterms:modified>
  <cp:revision>52</cp:revision>
  <dc:subject>CVPR10 poster spotlight presentation</dc:subject>
  <dc:title>Slide 1</dc:title>
</cp:coreProperties>
</file>