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move the slide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E6A-CA1D-411C-A888-555F12CA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04B-74BA-4091-8FF2-C65F4C42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BE05B-033D-41E6-A9AC-18A90D100B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5DF55-4353-455F-B04D-CF414478A5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978F6-B504-4E3A-9463-38B83F58A23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1891A-09A8-4F31-89ED-5A88564D30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FB12B-3553-42DF-BBB6-E4F7C032C0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9820E-E652-40A3-92D6-C9C736734E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D5A37-3C22-4EFF-B777-185C4DB21A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8AA5F-4845-48DC-A8BE-831254375C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9D97F-1A60-41A7-8E67-2E4FA67002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5E54E-9B5F-49FC-BA45-179800D8D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04FBB-9830-46D0-BD8D-E1C0AB81C1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506F-B67B-409B-A9FA-8D079198A3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423AF-CF75-4770-95CC-0D2735E82F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C100F-BB7C-4762-AC4C-C2AB60745B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7FCCA-FEC4-4B10-8483-95A9BABB4A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87013-6202-42A0-A181-1F1EA2484F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B0AB7-8B6B-498E-BA02-F9FC756076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5FB0D-438E-4ECC-94AE-A067064FD4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08B29-43E7-4B31-87D7-D557E3F4A3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E3434-03CF-4931-8675-A38AC3F26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72D5F-BA0A-4D20-87FC-2FE934AB7C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F974-076C-4BED-BF9D-F55613E6D9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E585-7D1D-49A9-AE22-C0EEDCA00D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2066-89D0-4218-BD41-E6021057AD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2832-833C-4831-95A9-0BF691A463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CC2B-1372-4252-B932-CC923B03FF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4400-EBE3-40F7-B1C8-4414711F6F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F9E7-5DD1-4193-B167-93A3FA07A3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A2E8-441E-4EE9-96BB-D3BEC22B80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23E4-E58B-433D-BC8A-928ADB3B2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4964-B413-4421-AC5C-CA45451B45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73DE-D81D-43EE-85E7-89CCA5D470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937B-4D3A-4DA5-B827-A0BE2530F8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9BD1-4684-4C1E-ABB9-CDE24D5BC2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90EA-F439-401A-8172-503A307683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9BA9-6743-4FF4-9CBC-B3B7CA458C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6823-C43C-4BB9-96D6-215475A052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7492-D627-41E4-8276-206095E04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2313-C919-4C6C-951A-3E525206DD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16D6-75FA-4DAF-BC21-3D77D4F9F4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0B0D-338D-428F-97F2-03066822AC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786-2C34-401D-963E-7237058D8B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39BF-7A59-44BF-9F14-CF4C586C2D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D322-061D-4591-A209-88BD911C0B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F57E-4C94-436F-8E7D-4F4C30026E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6711-018C-4A0A-B0E4-CC67C6A775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9BAF-9493-47E0-9359-FDDA32A617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C9CB-30C4-4335-8C23-046D1D2C8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323D-6EFB-4A0E-A91F-66AF9AC452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DC6B-9444-4DF3-824E-77EB919128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9941-D7E3-42E2-BEDB-64C12E1908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B5B8-8FA2-479D-AD42-EA4B5D031B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2E76-BF1F-477B-82E9-0A1EB9977C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31CF-006D-4DEB-8817-81263BBEB5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CF2-8515-4A74-81A7-DFF9DCFD0B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058B-7627-4A24-9358-5BD1A281AA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0500-6CF6-4570-8DED-047A2FA2A9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3B6-F5A7-4F2C-8652-6C828BDCD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241-7324-48C2-80F1-8A41C6BAB4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EB7-ED73-443F-88E2-435A968CF4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286-18F5-4295-9539-0D78190E04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9E2-47E4-45FB-A37C-949F57F1A5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47C-4591-4844-A12E-72120FC3D7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F43-C29A-4D1E-B6F9-AB4377E764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77F-1D4B-42A7-8622-639A96A965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DD3-F6C0-46CD-880C-7E4C1D66DF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145-9ECF-4145-8EAC-EF8900E1BC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804-3FC1-468A-A047-BBE356231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1E0-AB4D-4EDA-B372-33435AC71F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48A5A-0123-4A91-86EE-47B3DBA54E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C1322-3407-4F68-99B6-1EE32B9049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CE83A-B9C4-47C1-AF8B-BF1D9BD3D8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F8229-BCEB-4106-923F-70E2671568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B8E3-CE79-4668-9A25-CE2E482879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1E054-17D4-42FF-9401-279BA53490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A98A-B57D-461F-969D-B59BA802BA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84ABF-E39C-410C-BF5E-FD2C4F1F27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2611B-9353-47DA-98FF-572136850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CCA52-D721-4240-B486-EEEFB7655B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361B6-2B0D-4FEF-9752-5A28B13855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E099D-EE8C-4823-A03F-6F8429658E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6219-5631-43F1-B8E2-F503C0B1F2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E4975-05BC-4C20-A889-F5594729AE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4BEEC-FF82-42BF-B62E-DFE42D1F1B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A52D6-E1EB-4B91-A150-17A24AFF36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CCDC-6296-43FE-A432-775059E6B1C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193A9-5F14-426C-8E10-7BB4E4ED71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99CBC-3548-4F6C-9C31-FD4D3178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1FF1B-D3A9-4FDB-B429-CE3E70F116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CE37-2964-4AB2-9E6E-281CD276C6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AF73C-DD6E-4D4C-8D67-18D7946274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3D187-3031-4458-BF8A-8457194713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23170-234F-4EB9-B7AE-C8581DC8F9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FB1C-EB01-4228-9EAB-944A3131CF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D07F-B25E-4FE6-9E9C-00B60D9AD1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983-7406-4620-A203-684A95FC4C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A9B-311F-48C9-8D39-0D757871E6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CE1-BCC4-44D6-885B-BD302C99A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02920" y="0"/>
            <a:ext cx="64818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6E6-23E5-4803-9BF8-70367228225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1C2-71EA-4F68-93B9-EE9296873D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57ED-512E-439A-A4D5-4FD494F992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39CA-82A6-46AC-BABD-67C3FC3C0A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7808-2DDC-4EB9-99EB-DE49D1E167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1A41-3A54-4B35-8827-D02AE8DA98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C42D-5376-4A2F-8D85-1BE6789737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2BE50-2749-44B7-9DFE-2CDB17744F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34CFE-1944-4432-8CD3-8956697116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75669-BF73-4002-8443-691D8AEBA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pic>
        <p:nvPicPr>
          <p:cNvPr id="2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Num" idx="8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3B4-9A8F-4A35-B004-CEE492757E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25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9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4BE-1BD2-4816-B87E-9BD664CF76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14680" y="1855800"/>
            <a:ext cx="5857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206020"/>
                </a:solidFill>
                <a:latin typeface="Arial"/>
              </a:rPr>
              <a:t>Poster Spotl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96960" y="3440160"/>
            <a:ext cx="7775640" cy="3095640"/>
          </a:xfrm>
          <a:prstGeom prst="rect">
            <a:avLst/>
          </a:prstGeom>
          <a:solidFill>
            <a:srgbClr val="202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trees.png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ogo4Banner.png"/>
          <p:cNvPicPr/>
          <p:nvPr/>
        </p:nvPicPr>
        <p:blipFill>
          <a:blip r:embed="rId6"/>
          <a:stretch/>
        </p:blipFill>
        <p:spPr>
          <a:xfrm>
            <a:off x="5972040" y="66600"/>
            <a:ext cx="317196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1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6E02-204E-4160-8A8E-1626ADF66D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2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68D-7FCB-4DD0-81D2-354F013F7C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3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ECAD-2EE6-4DBE-A00D-BA5823B1EB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4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C59-36FE-463A-AC9B-F68C7BCC03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57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5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E14-B91B-4643-AB24-51C557CAED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299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6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4238-A351-4FBA-8796-6AFB3B4434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0" descr="mt_hood.png"/>
          <p:cNvPicPr/>
          <p:nvPr/>
        </p:nvPicPr>
        <p:blipFill>
          <a:blip r:embed="rId2"/>
          <a:srcRect l="0" t="0" r="86127" b="0"/>
          <a:stretch/>
        </p:blipFill>
        <p:spPr>
          <a:xfrm>
            <a:off x="3492360" y="0"/>
            <a:ext cx="5651640" cy="549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Logo4Banner.png"/>
          <p:cNvPicPr/>
          <p:nvPr/>
        </p:nvPicPr>
        <p:blipFill>
          <a:blip r:embed="rId3"/>
          <a:stretch/>
        </p:blipFill>
        <p:spPr>
          <a:xfrm>
            <a:off x="7885080" y="6480"/>
            <a:ext cx="1258920" cy="566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mt_hood.png"/>
          <p:cNvPicPr/>
          <p:nvPr/>
        </p:nvPicPr>
        <p:blipFill>
          <a:blip r:embed="rId4"/>
          <a:stretch/>
        </p:blipFill>
        <p:spPr>
          <a:xfrm>
            <a:off x="0" y="0"/>
            <a:ext cx="3511440" cy="54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12"/>
          <p:cNvSpPr/>
          <p:nvPr/>
        </p:nvSpPr>
        <p:spPr>
          <a:xfrm>
            <a:off x="108000" y="620640"/>
            <a:ext cx="8928000" cy="0"/>
          </a:xfrm>
          <a:prstGeom prst="line">
            <a:avLst/>
          </a:prstGeom>
          <a:ln w="38160">
            <a:solidFill>
              <a:srgbClr val="206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Num" idx="7"/>
          </p:nvPr>
        </p:nvSpPr>
        <p:spPr>
          <a:xfrm>
            <a:off x="8172000" y="-360"/>
            <a:ext cx="97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9A0F-B3FB-4772-89CB-FA6EC3C843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2"/>
          <p:cNvSpPr/>
          <p:nvPr/>
        </p:nvSpPr>
        <p:spPr>
          <a:xfrm>
            <a:off x="2000520" y="2844720"/>
            <a:ext cx="51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1A: Tuesday Morning, June 25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868320" y="4327560"/>
            <a:ext cx="740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p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Auth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02070"/>
                </a:solidFill>
                <a:latin typeface="Arial"/>
              </a:rPr>
              <a:t>Paper Title</a:t>
            </a:r>
            <a:endParaRPr b="1" lang="en-US" sz="2700" spc="-1" strike="noStrike">
              <a:solidFill>
                <a:srgbClr val="20207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9000" y="0"/>
            <a:ext cx="1212480" cy="459720"/>
          </a:xfrm>
          <a:prstGeom prst="rect">
            <a:avLst/>
          </a:prstGeom>
          <a:noFill/>
          <a:ln w="0">
            <a:noFill/>
          </a:ln>
          <a:effectLst>
            <a:outerShdw dist="12904" dir="3591516" blurRad="0" rotWithShape="0">
              <a:srgbClr val="ffff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1A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48:56Z</dcterms:created>
  <dc:creator>Eric</dc:creator>
  <dc:description/>
  <dc:language>en-US</dc:language>
  <cp:lastModifiedBy>Ryan Farrell</cp:lastModifiedBy>
  <dcterms:modified xsi:type="dcterms:W3CDTF">2013-05-19T06:49:33Z</dcterms:modified>
  <cp:revision>52</cp:revision>
  <dc:subject>CVPR10 poster spotlight presentation</dc:subject>
  <dc:title>Slide 1</dc:title>
</cp:coreProperties>
</file>